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5C2-40CC-406A-A166-A988FF0B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ACC-73D7-48C3-B986-2016B9DA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CA6-413D-4BCA-9D74-2673368F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075-F05B-4D37-8890-5269FD9A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24F0-123D-4FAE-9830-EC3CC714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A360-F44D-4584-88EA-20D47972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ED26-77EF-463D-B67D-D51E2BC5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5680-E960-4503-BA9A-4D9842F1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9993-F058-4E39-B9FC-7ED434B3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9882-7A33-499F-9FDA-CC587E03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5D98-8583-4D9A-9D09-64EF971F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24C-FD82-4685-95D3-3915A8A5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9441-0265-425B-AD71-0785B707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E244-D025-4287-8BDE-C41F7F71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7B09-E706-4E32-B9C5-A26CC0DB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EA6A-781A-44FC-B238-F5D550E7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A227-7359-49F1-AAD5-969D0A69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829-90A9-4421-B647-555CDA78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C12A-2A98-4563-BD84-87061DE6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435-A988-4D83-BC21-CE0D600D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DCC-8370-48BF-85A0-7505F76F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54D-EDDD-4994-941E-BF6D50DD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CA6-FDFD-4260-B3E2-6B054F40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69C-645D-430C-AE1B-7C66A878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4C51-F0C3-46E2-9F02-BFB488BB3A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2826-3998-448A-8A18-0D58123A3C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y 2005 Updat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ming so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erkeleyDB backen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llen Day’s template system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nit tes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VS Issue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emplate version on CVS HEA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asic functionality work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any advanced features not work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ug fixes on 1.62-bugfixes branch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commended for end user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ill become 1.63 RS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431360" y="1828800"/>
            <a:ext cx="288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mon Ilyuschenk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alitha Krishn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70640" y="411480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UC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Allen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1880" y="182880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905" t="28856" r="2830" b="13655"/>
          <a:stretch/>
        </p:blipFill>
        <p:spPr>
          <a:xfrm>
            <a:off x="838080" y="1824120"/>
            <a:ext cx="7751880" cy="3738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Recent Improvem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rder of sections reorganiz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roup tracks by categ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xpand/contract categori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lace plugins in menuba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ternal chang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ibraries refactored; easier to manage plugins, upload tracks, DAS tracks, improved Chado interface, GFF3 load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llapsible Sectio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410" t="14877" r="3433" b="5502"/>
          <a:stretch/>
        </p:blipFill>
        <p:spPr>
          <a:xfrm>
            <a:off x="228600" y="1609560"/>
            <a:ext cx="8915400" cy="5248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llapsible Sectio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410" t="14877" r="3433" b="5502"/>
          <a:stretch/>
        </p:blipFill>
        <p:spPr>
          <a:xfrm>
            <a:off x="304920" y="1654200"/>
            <a:ext cx="8839080" cy="5203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roupable Track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228600" y="1523880"/>
            <a:ext cx="8763120" cy="5160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roupable Track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228600" y="1523880"/>
            <a:ext cx="8763120" cy="516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Menuable Plugi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304920" y="1600200"/>
            <a:ext cx="8839080" cy="5207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666880" y="2057400"/>
            <a:ext cx="2286000" cy="533520"/>
          </a:xfrm>
          <a:prstGeom prst="ellipse">
            <a:avLst/>
          </a:prstGeom>
          <a:noFill/>
          <a:ln w="12600">
            <a:solidFill>
              <a:srgbClr val="d57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More Glyph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557" t="14814" r="3644" b="3701"/>
          <a:stretch/>
        </p:blipFill>
        <p:spPr>
          <a:xfrm>
            <a:off x="533520" y="1523880"/>
            <a:ext cx="8381880" cy="5194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 </cp:lastModifiedBy>
  <cp:lastPrinted>1998-10-28T21:29:29Z</cp:lastPrinted>
  <dcterms:modified xsi:type="dcterms:W3CDTF">2005-05-16T18:46:05Z</dcterms:modified>
  <cp:revision>560</cp:revision>
  <dc:subject/>
  <dc:title>Training</dc:title>
</cp:coreProperties>
</file>